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3F1A-7CD1-4206-99CE-7E7AB6EC49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CA38D-0C5B-486C-B5DB-101D5AE7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F15D-0A9A-453F-B385-076C8F14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5FC8-2E7F-4D3D-A121-1643AC3B7C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E1BD-60D4-414A-BAF1-FAE13AC3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FE74-6AE5-48E8-BF71-8AB8C027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4DE4-3C10-4E5F-A233-BD4C5D40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C280-26BF-4AE1-BC5E-02D470AD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466D-576F-4C8E-8407-95C44383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A8EC-9D37-467B-9990-7E475598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1E45-E340-4EB0-90FE-6453B9F1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4758-D1F3-4E3B-8153-18F36036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34374-FB90-481C-9807-ED68C6C8BA6F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965920" y="-41400"/>
            <a:ext cx="3387600" cy="705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5880" y="819000"/>
            <a:ext cx="621504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A CONCEPTION ARCHITECTURAL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AR LE NUME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00880" y="592920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57b17"/>
                </a:solidFill>
                <a:latin typeface="Calibri"/>
              </a:rPr>
              <a:t>24/04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57b17"/>
                </a:solidFill>
                <a:latin typeface="Calibri"/>
              </a:rPr>
              <a:t>CAUSSAT ARNA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57b17"/>
                </a:solidFill>
                <a:latin typeface="Calibri"/>
              </a:rPr>
              <a:t>SEMINAIRE FINC-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65920" y="-41400"/>
            <a:ext cx="3387600" cy="705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000" y="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NCEPTION ARCHITECTURALE PAR LE </a:t>
            </a:r>
            <a:r>
              <a:rPr b="0" lang="fr-FR" sz="2400" spc="-1" strike="noStrike">
                <a:solidFill>
                  <a:srgbClr val="f57b17"/>
                </a:solidFill>
                <a:latin typeface="Calibri"/>
              </a:rPr>
              <a:t>NUME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7120" y="1357200"/>
            <a:ext cx="62578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UJE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usage des technologies numériques comme support des processus de conception en archit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OBLEMAT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 quel point l’usage  du numérique pour concevoir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matérialiser/interroger la pensée - peut-il influencer la manière de générer l’e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ers une approche radicalement différent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760" y="5500800"/>
            <a:ext cx="5715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mmentai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Approfondir notion outil/instrument (gilbert simondon,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Du mode d'existence des objets techniqu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éciser le champ d’étude (fonction des recherch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Définition des termes récurr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28800"/>
            <a:ext cx="6286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4120" y="1357200"/>
            <a:ext cx="62578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INTRODUCTION 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LE PROCESSUS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plication par l’exemple du CROQUIS: génèse du processus de con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roquis : support habituel de la pensée de la Renaissance Italienne à nos j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YNTHESE 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bref résumé théorique de ce qu’est un processus de con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   L’apport des sciences cognitives : la conception par analog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760" y="571500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mmentai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Le croquis : mise en lumière d’un processus de conception éprou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Permettre une analyse comparative (implicite) avec le numérique (suite du mémoir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65920" y="-41400"/>
            <a:ext cx="3387600" cy="705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28800"/>
            <a:ext cx="6286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429680" y="1357200"/>
            <a:ext cx="1477800" cy="1357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786720" y="2643120"/>
            <a:ext cx="1322280" cy="156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29240" y="4597560"/>
            <a:ext cx="2714760" cy="147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824960" y="3071880"/>
            <a:ext cx="1319040" cy="1555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6000" y="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NCEPTION ARCHITECTURALE PAR LE </a:t>
            </a:r>
            <a:r>
              <a:rPr b="0" lang="fr-FR" sz="2400" spc="-1" strike="noStrike">
                <a:solidFill>
                  <a:srgbClr val="f57b17"/>
                </a:solidFill>
                <a:latin typeface="Calibri"/>
              </a:rPr>
              <a:t>NUME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357200"/>
            <a:ext cx="63295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EVELOPPE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périence personnelle: travail de conception collaboratif dans Second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SENTATION DE TRAVAUX ACTU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agences/centre de recherche travaillant sur la potentialité de la conception numér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   dECOI (Mark Gouthor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&amp;Sie</a:t>
            </a: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illustration : I’ve heard about…(A flat, fat, growing urban experiment), 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NALYSE 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ise en relation des différents travaux : tentativ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potentiel de la conception numé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760" y="5929200"/>
            <a:ext cx="5572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mmentai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semble des travaux support de la réflex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Travail de recherche à approfondi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65920" y="-41400"/>
            <a:ext cx="3387600" cy="705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28800"/>
            <a:ext cx="6286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29720" y="3143160"/>
            <a:ext cx="1036440" cy="1557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215120" y="1214280"/>
            <a:ext cx="1644840" cy="119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429240" y="2428920"/>
            <a:ext cx="1500480" cy="234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572160" y="4929120"/>
            <a:ext cx="2428920" cy="148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215040" y="6386400"/>
            <a:ext cx="300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57b17"/>
                </a:solidFill>
                <a:latin typeface="Calibri"/>
              </a:rPr>
              <a:t>Illustration: R&amp;Sie</a:t>
            </a:r>
            <a:r>
              <a:rPr b="0" lang="en-US" sz="1000" spc="-1" strike="noStrike">
                <a:solidFill>
                  <a:srgbClr val="f57b17"/>
                </a:solidFill>
                <a:latin typeface="Calibri"/>
              </a:rPr>
              <a:t>, I’ve heard about…(A flat, fat, growing urban experiment)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6000" y="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NCEPTION ARCHITECTURALE PAR LE </a:t>
            </a:r>
            <a:r>
              <a:rPr b="0" lang="fr-FR" sz="2400" spc="-1" strike="noStrike">
                <a:solidFill>
                  <a:srgbClr val="f57b17"/>
                </a:solidFill>
                <a:latin typeface="Calibri"/>
              </a:rPr>
              <a:t>NUME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74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357200"/>
            <a:ext cx="618660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NCLUS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aux processus de conception engendre une nouvelle manière d’appréhender la conception de l’espaces. Mise à profit des nouvelles technolog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uvert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rchitecte du futur ?  Mutation d’un métier (spéculation sur le rôle futur de l’architecte comparativement à nos jou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7120" y="7143840"/>
            <a:ext cx="55720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mmentai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Le croquis entendu comme étant …bidimens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Permettre une analyse comparative (implicite) avec le numérique (suite du mémoire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5920" y="-41400"/>
            <a:ext cx="3387600" cy="705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28800"/>
            <a:ext cx="6286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040" y="4570560"/>
            <a:ext cx="561960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IBLIOGRAPHI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Estevez Daniel.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Dessin d'architecture et infographie : l'évolution contemporaine des pratiques graphiques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is : CNRS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Lebahar Jean-Charles.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La conception en design industriel et en architecture; désir, pertinence, coopération et cognition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 Cachan : Lavoisier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llectif.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Les grands dossiers des sciences humaines : entre image et écriture, la découverte des systèmes graphiques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 Trimestriel n°11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ola Gregory.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</a:rPr>
              <a:t>New scapes : Territories of complexity.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l, Suisse : Birkhä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6000" y="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NCEPTION ARCHITECTURALE PAR LE </a:t>
            </a:r>
            <a:r>
              <a:rPr b="0" lang="fr-FR" sz="2400" spc="-1" strike="noStrike">
                <a:solidFill>
                  <a:srgbClr val="f57b17"/>
                </a:solidFill>
                <a:latin typeface="Calibri"/>
              </a:rPr>
              <a:t>NUME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9:15:54Z</dcterms:created>
  <dc:creator>James Bond</dc:creator>
  <dc:description/>
  <dc:language>en-US</dc:language>
  <cp:lastModifiedBy>James Bond</cp:lastModifiedBy>
  <dcterms:modified xsi:type="dcterms:W3CDTF">2009-04-24T06:46:14Z</dcterms:modified>
  <cp:revision>2</cp:revision>
  <dc:subject/>
  <dc:title>LA CONCEPTION ARCHITECTURALE  PAR LE NUMERIQUE</dc:title>
</cp:coreProperties>
</file>